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42F-6A2D-4FE0-B9ED-5FCCBE33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0E3-7395-4A06-9C39-3D8FC5EC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78DE4-8C43-43F4-83DA-ECDADF12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459C2-8929-45C4-AD4F-AE7265D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A62A3-9B8F-4606-AF04-59FF6C1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B84DB-B3C5-4D1E-92A5-06F0950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E50DA-7FDE-4D84-8331-D8B7A230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281F2-9970-4538-BEF2-5E0A542F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B37F3-22EB-4766-9AE6-F2317BF9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51220-9F54-4F05-879D-0E4EF6B7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3C26A-8D53-4D68-BDD1-3CCA5483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087-2A68-4F5B-BAA6-459AB7F8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35E-66C9-4263-B0D3-45EADCD0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03CB-3AB6-466E-9937-B88574AE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4C87-9B9D-40D4-BA43-3BB4E466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1FC7-0870-452A-8346-0D3F19A5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5443-C5D3-40A8-83FF-0EA65E80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5722-D4F8-4E01-A14B-57175C67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1202-447B-4327-B4EE-B16EE454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856-49FC-4C70-A608-E309311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BBC-4033-401E-A77B-282C1479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DF5-76DB-4CAB-8967-2C8D0E9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E10D-84C2-42DC-B063-1A4BD099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E9F7-6867-4831-8935-75D86FB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89D6-703A-452C-99A0-7CE94AF4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E446-4F77-4D40-80F5-B80B5BDF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8CD2-06B0-4620-8A32-B2A32632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DC14-2288-408D-97BF-36E19245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0695-F1B5-487B-A7F9-B7C5EE85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1D63-2942-43BE-982B-35756F3B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A919B-EFE5-42E3-82AD-B6F735DB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482-EF23-4A2F-8E03-EE70389F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76914-3B36-4163-ACFB-3960A8C0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575C-047B-4262-9C16-031D8E1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B5D8-BF69-4ACC-852B-5787A7E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AC9B-5EC1-4CD0-BA86-14BC74E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6C11-9B83-4F29-9C7D-1C2299CE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69D7-5175-457C-9A6D-4B87DD96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749D-454E-4B89-A18E-F88AB363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3E3C-7B88-4D08-98F8-3D083A92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965C-D9DC-47F1-AB5A-191EDEC3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2F84-57A6-413A-A0AB-5A8C0F53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944-B6F2-46EB-9E8C-B947505D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6129-D898-40E9-86B1-F0B33A41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2EB3-55F4-4A67-B9BB-72223FF1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6C37-F3AE-4B3B-8B92-A4CDACE3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33884-CB25-451B-BB2D-FE575434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3FEC-655B-4874-B2D2-71A42472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9CA2-0B3C-4039-9E28-8D80F67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5E15-647F-41EE-B646-7BC52D28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6F0A-0DF6-4C1D-9316-A07124F9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BC56-3F2C-45DC-9FA6-AE057D2C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EF99-F6E8-49B6-B067-FCA98C44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B88-7576-4104-9131-A7BF48A3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4CB6-5E06-43AA-A845-3C416A23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0D7F-EEFE-489E-96FD-9B5F29CC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4165-F4AA-4858-B59D-FC5961F6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EA29B-1FBC-45AE-9842-A00D973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DC024-A676-46E0-861F-67CD856A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9EE4C-4CF5-4EBA-894C-F5835530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BA47-AE39-4EFD-A9ED-302ADFDC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8947-6558-47AB-9313-3AF53342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63FA-339F-4FFE-95BB-815B41A2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5CC07-DA8D-4564-9157-2ACDF694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A15-D2EF-4B83-A5B9-5503C0DC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989A4-92F7-4336-BB36-6D370953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7E46-F5C4-4F81-89A3-7A4DD084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D2DD7-6EF3-493E-806E-C768DF5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6E1D-4EBA-4F6E-9388-D2993F1D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33CC-CAED-46F7-9CCF-ED5F7884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F7876-0306-4D96-9110-000431F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CEE20-44DE-47F2-A1BF-E033B13D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1F1B-1465-440A-A4F0-88B2620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5C9CE-C249-4FB9-9BAE-6740ABD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0453B-6943-4AF0-93DC-6924FDA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F25-6035-46A0-A167-75128D4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C45F7-EB4C-4EBE-BA2A-A1A11C5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0709-A06E-44D3-99AC-1C1A9C54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FB05-17DA-4E57-B280-97EB0CE2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D0F50-16A7-4529-A07D-BE40E486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1969-C2C8-4534-9158-5C84863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3B081-DB6E-4671-9A20-8340C76E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9063-4E7F-4625-AE45-B980127D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BF389-0278-4B49-86F4-E378BE61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EDDC3-64C2-4431-AA4F-500D9563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B0532-BCB9-442C-B3DD-20FB5B6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B29-085B-4E02-AB8C-0BBFB41E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C4770-EEDD-483C-A7F9-06405C1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B8FEA-58E3-4DDD-B092-DC31ECED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A0D1-58DF-4580-AEEA-85F2C776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39D1-7906-4232-B15C-3DAD9CE6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221D7-C4B3-41D2-91CA-706FF489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04838-75CD-4CF4-8511-A91367CD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E1967-951F-460A-A838-80DC870F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09D35-F54A-4A10-B6A8-6ED67B85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DBC92-A3CB-419E-8396-CFDFAA4D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0CF7B-0778-4F74-8816-766DA0EB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CD7-CC00-4221-A490-21DFB9EB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00F1-6A0D-4D83-9BC8-3E8298F9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63178-09A4-4750-9B13-F0C6927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01B70-CD55-4CBB-9C89-B6FCACC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23C6-C76E-4358-9507-39381561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14CA-87FF-4231-8769-54A196F0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EF84C-5EAC-4286-A957-2490D057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59692-5EB7-466D-B73A-98DB1D5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CCA4C-2F7F-4245-9443-EF83B4CC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21863-B16F-4762-A6BB-C3520384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AD0C0-4E6D-4D9B-A057-81E3650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15EAD87-EAC6-4674-9C13-C9DB77C95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18F68CD-16C9-4232-8D46-915EC3288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9A31D307-A9BD-4AE7-BD50-898B96B25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6180DFC6-D67C-41F0-8652-2CA876DF2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BDB8354-DC17-4A3B-8D7C-BF5F2F3EA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5DAB9F9A-F944-4376-870F-3A8EC76CA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FA34E850-898F-4A20-81B2-37FE693CE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Elabora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high for many buy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is felt to be a necess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rent contro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1476D7A-E7B7-4AFB-8BE6-28890C405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ceilings cause shortag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B95BE0E-62D1-48DB-AB5A-D58DA07800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11" descr="Fig3_6.bmp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llocating Shortag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arket (supply and demand)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come, first serve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s’ preferenc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059DE7B-C9AA-4303-A44A-FE8BD5992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DBF0419-396B-4FDE-8484-6423AB910B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932040" y="2725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Price = 0.90;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Shortage of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2077141-E11E-4D8E-804C-90903C4EA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2"/>
          <p:cNvSpPr/>
          <p:nvPr/>
        </p:nvSpPr>
        <p:spPr>
          <a:xfrm>
            <a:off x="4295880" y="4827600"/>
            <a:ext cx="394488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1"/>
          <p:cNvSpPr/>
          <p:nvPr/>
        </p:nvSpPr>
        <p:spPr>
          <a:xfrm>
            <a:off x="2052720" y="5408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$1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 flipV="1">
            <a:off x="6113520" y="3498840"/>
            <a:ext cx="14400" cy="224640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eft-Right Arrow 19"/>
          <p:cNvSpPr/>
          <p:nvPr/>
        </p:nvSpPr>
        <p:spPr>
          <a:xfrm>
            <a:off x="6156360" y="4943520"/>
            <a:ext cx="1774800" cy="372960"/>
          </a:xfrm>
          <a:prstGeom prst="leftRightArrow">
            <a:avLst>
              <a:gd name="adj1" fmla="val 50000"/>
              <a:gd name="adj2" fmla="val 498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low for produc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ten used in agricultural marke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ADBF67B-B291-4319-93E7-014BE443B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floors cause surplus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E363A84-2098-4376-9C35-B3281FAE4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3" descr="Fig3_8.bmp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um wage laws can cause unemployment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02840FB-C0B6-4CDB-9C22-590E0ECCA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2" descr="Fig3_10.bmp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aling with Surplus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l it abroad at a reduced price (dump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at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stroy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5A83948-FB9D-4925-8857-12CDB69AF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12400" y="1233000"/>
            <a:ext cx="8474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quota, or restricting output, can raise price without causing a surpl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2D75703-F506-4084-B3C2-FC1BEDB74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Fig3_9.bmp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why markets do not always work well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ceilings caus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D153E78-B2DE-4BF5-8AD9-398E4367AF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8C584D1-08E6-457A-8149-6FA6C7638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90E5E1B-1C49-408E-8508-848D9DE71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1"/>
          <p:cNvSpPr/>
          <p:nvPr/>
        </p:nvSpPr>
        <p:spPr>
          <a:xfrm>
            <a:off x="2760840" y="1609560"/>
            <a:ext cx="46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TR = Q x P = 5 x 3.50 = $17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903240" y="4664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Qd=4, Qs=6, bu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12"/>
          <p:cNvSpPr/>
          <p:nvPr/>
        </p:nvSpPr>
        <p:spPr>
          <a:xfrm>
            <a:off x="4730760" y="3274920"/>
            <a:ext cx="284940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1"/>
          <p:cNvSpPr/>
          <p:nvPr/>
        </p:nvSpPr>
        <p:spPr>
          <a:xfrm>
            <a:off x="2322360" y="58053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2 x $4 = $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Vertical 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vertical demand curve suggests that price does not matter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quantity is demanded no matter what the pri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 goods seen as necessities (eg, insulin) may have a perfectly inelastic (vertical) rang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, quantity demanded decreases as income is insufficient to pay for the goo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86BCF91-D5CA-41D3-8FDE-21ED7A806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Upward Sloping Demand Curv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ward sloping demand curves may be true for some individuals over a limited range of pric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DCC5E12-C738-4B6B-A785-390C8E033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2" descr="Fig3_12.bmp"/>
          <p:cNvPicPr/>
          <p:nvPr/>
        </p:nvPicPr>
        <p:blipFill>
          <a:blip r:embed="rId1"/>
          <a:stretch/>
        </p:blipFill>
        <p:spPr>
          <a:xfrm>
            <a:off x="0" y="21556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Demand for Wate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ffect of a change in supply depends very much on the shape of the demand cur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BAA611B-75CB-44A0-85B9-07948FE2F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1" descr="Fig3_14.bmp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markets don’t always work well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ceilings creat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floors creat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demand curves might be vertical or upward slop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5618E46-3612-4D2E-AE41-E522BBCBC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floors caus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Ask some interesting “what if ” questions concerning the shape of demand and supply curv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9990ECC-966F-4782-A28D-72B3E8AE38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CCD4B2C-1949-4650-AA2F-6E86A2172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5960" y="2297160"/>
          <a:ext cx="7688160" cy="3238560"/>
        </p:xfrm>
        <a:graphic>
          <a:graphicData uri="http://schemas.openxmlformats.org/drawingml/2006/table">
            <a:tbl>
              <a:tblPr/>
              <a:tblGrid>
                <a:gridCol w="3498840"/>
                <a:gridCol w="509760"/>
                <a:gridCol w="36795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</a:tr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pre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productiv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in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relat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ations of future prices, incomes, or 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substitutes in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: its size, income distribution, 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ure expectations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21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imultaneous Changes i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 in both demand and supply leads to an increase in equilibrium quantity; price may rise or f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9006FED-96AB-4034-A4E1-9C2CFBF3A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" descr="C:\Users\aholowinsky\Documents\McGrawHill\Sayre Micro Image Bank\Fig3_3.bmp"/>
          <p:cNvPicPr/>
          <p:nvPr/>
        </p:nvPicPr>
        <p:blipFill>
          <a:blip r:embed="rId1"/>
          <a:stretch/>
        </p:blipFill>
        <p:spPr>
          <a:xfrm>
            <a:off x="0" y="2719440"/>
            <a:ext cx="9144000" cy="35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3B84830-B668-4FE7-9892-921B856ABF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2039760"/>
          <a:ext cx="8175600" cy="4480200"/>
        </p:xfrm>
        <a:graphic>
          <a:graphicData uri="http://schemas.openxmlformats.org/drawingml/2006/table">
            <a:tbl>
              <a:tblPr/>
              <a:tblGrid>
                <a:gridCol w="1816200"/>
                <a:gridCol w="635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mothers with small children are returning to the labour force; at the same time, government decides to introduce subsidies for day-care opera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severely increases the penalties for both buying and selling mariju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processing method significantly reduces the costs of producing CDs; at the same time, more consumers download music directly onto their comput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rianism increases as a result of medical reports extolling its health benefits; at the same time, tighter regulations on the definition of organically grown products are introduc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77720" y="2295360"/>
          <a:ext cx="8177400" cy="3338640"/>
        </p:xfrm>
        <a:graphic>
          <a:graphicData uri="http://schemas.openxmlformats.org/drawingml/2006/table">
            <a:tbl>
              <a:tblPr/>
              <a:tblGrid>
                <a:gridCol w="1817640"/>
                <a:gridCol w="63597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622600" y="2682720"/>
            <a:ext cx="61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increase so quantity traded increases but price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31FD518-891E-4414-8619-BF12A03C4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2658960" y="3378240"/>
            <a:ext cx="61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decrease so price is indeterminate while quantity traded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2647800" y="4079880"/>
            <a:ext cx="62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ply increases while demand decreases so price de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1"/>
          <p:cNvSpPr/>
          <p:nvPr/>
        </p:nvSpPr>
        <p:spPr>
          <a:xfrm>
            <a:off x="2668680" y="4838760"/>
            <a:ext cx="62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emand increases and supply decreases so that price in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How Well Do Markets Work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2400" y="1733400"/>
            <a:ext cx="847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oblems with markets: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adjust as quickly as we would lik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produce equitable resul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ve markets may not exist for some goods or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2D120E6-921B-490B-9DFE-C08ABCFB7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ontrol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2400" y="1434600"/>
            <a:ext cx="84740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ontr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regulations to set either a maximum or minimum price for a product 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eiling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ax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93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Floor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in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9035B5E-835B-44EB-8F30-8D356C503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5:56Z</dcterms:modified>
  <cp:revision>202</cp:revision>
  <dc:subject/>
  <dc:title>Slide 1</dc:title>
</cp:coreProperties>
</file>